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49A-CF96-4C86-B308-36464750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530-70A8-41E9-9C63-B0B2108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62C-FEEF-4C9C-817B-3AF5ED65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3E3-5515-4955-B58C-4EDE69E9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245-B531-4CFE-A197-EDB99197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9EC-9CCE-4576-B117-0DD8EF97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E31-D84D-44CB-B906-CB3CF52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027-73DF-48B9-88B4-27B15379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417-FF76-4A92-83B9-C2748CEB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0E4-549C-471E-BB39-74E33FB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985-A56C-4E6D-8766-93B23DF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447-CD42-41D2-87F1-A153508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ABBB-D70B-4CC6-8296-3C8FBD235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079600">
            <a:off x="193680" y="4789080"/>
            <a:ext cx="1447920" cy="990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160" y="617220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 upcoming ev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1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Saturd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Lego League Rochester Ru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rage all your FLL teams to bring thei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 Odyssey 'bots for more f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&amp; 2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Saturday &amp; Sund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Robotics Rah-Cha-Cha Ruckus I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ing your robots for another great off-season Competition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5120" y="0"/>
            <a:ext cx="144288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7924680"/>
            <a:ext cx="822240" cy="87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8320" y="8442360"/>
            <a:ext cx="2047680" cy="55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6680" y="7696080"/>
            <a:ext cx="22366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eam 15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lling Thu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m O’To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toole@harri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5-242-33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VP attendance by 2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676520" y="-360"/>
            <a:ext cx="3619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Invit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0" y="8823240"/>
            <a:ext cx="164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enfieldrobotic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800" y="882324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rfcomm.harri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1371600"/>
            <a:ext cx="48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ve those pre-ship practice event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1511 Would Like to Announce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057400"/>
            <a:ext cx="6400800" cy="289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hester Rally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ay February 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field High School Gym &amp; Cafe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&amp; Have a blast like last year, test out your robots and start strategiz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ed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3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3:30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cks &amp;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30-4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s &amp; Opening 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6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y 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ractice &amp; P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p!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e need teams to bring all of their balls (mark them with your team number!) and we need two Lower goals. RSVP # balls or goals by 2/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5372280"/>
            <a:ext cx="54864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your robots shipped directly from PHS!  Bring your crate 2/11-2/20 to box-up your robot.  FREE transportation to the drayage company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the FedEx tags &amp; the hassle! RSVP by 2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509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20:20:06Z</dcterms:created>
  <dc:creator>Doug Hitchcock</dc:creator>
  <dc:description/>
  <dc:language>en-US</dc:language>
  <cp:lastModifiedBy>Kim O'Toole</cp:lastModifiedBy>
  <dcterms:modified xsi:type="dcterms:W3CDTF">2006-01-26T21:06:16Z</dcterms:modified>
  <cp:revision>9</cp:revision>
  <dc:subject/>
  <dc:title>You are Invited!</dc:title>
</cp:coreProperties>
</file>