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42B-C665-4E92-AFAB-00187E98D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04F6-CED1-4BF9-8333-982EC549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AC8-B32A-427C-B427-33EFF047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C57A-E4EC-4D8E-BD92-F0082D4A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FA48-2751-491F-83AC-BE636F12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62A-DAC8-4BA3-B92A-C8562BFF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1274-22AB-4CD6-A037-E47EB88B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F92-AA9F-46D3-8990-1CC3BDB8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1E61-34EB-4431-8C59-756EF17F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8BC-E7DF-4695-8494-F82FA86F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D890-6C55-456F-A727-A516BFB0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BC7E-17A8-4999-82A3-395903FD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78A3-0A2F-4199-8E60-CDAF6C623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20079600">
            <a:off x="193680" y="4789080"/>
            <a:ext cx="1447920" cy="99072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533160" y="6172200"/>
            <a:ext cx="6095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ther upcoming eve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rch 1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Saturda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Lego League Rochester Rum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courage all your FLL teams to bring their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cean Odyssey 'bots for more fu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ctober 28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&amp; 29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Saturday &amp; Sunday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ST Robotics Rah-Cha-Cha Ruckus I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ing your robots for another great off-season Competition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415120" y="0"/>
            <a:ext cx="1442880" cy="1257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8600" y="7924680"/>
            <a:ext cx="822240" cy="876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648320" y="8442360"/>
            <a:ext cx="2047680" cy="557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6680" y="7696080"/>
            <a:ext cx="2236680" cy="137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eam 15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olling Thu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im O’To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toole@harris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85-242-33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VP attendance by 2/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1676520" y="-360"/>
            <a:ext cx="3619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are Invit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0" y="8823240"/>
            <a:ext cx="164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penfieldrobotic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32800" y="8823240"/>
            <a:ext cx="153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rfcomm.harris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0920" y="1371600"/>
            <a:ext cx="484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ve those pre-ship practice events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am 1511 Would Like to Announce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2057400"/>
            <a:ext cx="6400800" cy="289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chester Rally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ay February 20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field High School Gym &amp; Cafe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&amp; Have a blast like last year, test out your robots and start strategiz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chedu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-3p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-3:30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acks &amp;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30-4p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akers &amp; Opening Int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-6p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y Mat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-8pm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ractice &amp; Pack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elp!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We need teams to bring all of their balls (mark them with your team number!) and we need two Lower goals. RSVP # balls or goals by 2/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68560" y="5372280"/>
            <a:ext cx="54864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 your robots shipped directly from PHS!  Bring your crate 2/11-2/20 to box-up your robot.  FREE transportation to the drayage company.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ve the FedEx tags &amp; the hassle! RSVP by 2/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5096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20:20:06Z</dcterms:created>
  <dc:creator>Doug Hitchcock</dc:creator>
  <dc:description/>
  <dc:language>en-US</dc:language>
  <cp:lastModifiedBy>Kim O'Toole</cp:lastModifiedBy>
  <dcterms:modified xsi:type="dcterms:W3CDTF">2006-01-26T21:06:16Z</dcterms:modified>
  <cp:revision>9</cp:revision>
  <dc:subject/>
  <dc:title>You are Invited!</dc:title>
</cp:coreProperties>
</file>